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2960" y="742680"/>
            <a:ext cx="495432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526680" y="4626000"/>
            <a:ext cx="5800680" cy="4457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4192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6D35F23-E466-4D4D-949D-CFBDD9F52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26680" y="4626000"/>
            <a:ext cx="5800680" cy="4457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n Name ist Michael Erdmann und ich bin Mitarbeiter in der Arbeitsgruppe "Wissensmanagement" von Prof. Rudi Stu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 AIFB (Angewandte Informatik und Formale Beschreibungsverfahren) ist ein Informatik-Institut an der Wi-Wi-Fakultät der Uni Karlsruhe, wo wir uns um die Informatik-Ausbildung der Studierenden des Faches Wirtschaftsingenierwesen kümm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erpunkte der Arbeitsgrup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Ac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Discovery in Databases / Data M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Management (der IT - Teil, insb. mit KI-Technik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tl. Synonym zu Informationslogistik nach SPP-Ausschreibun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mindest was IT-Unterstützung ange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te Informationssuche (inkl. aktueller Standards des WW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er enge Anknüpfungspunkte für Agententechn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84D6-CE67-40AB-B6D2-AAF91713D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43693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7CDF-A9CB-44DF-BC9A-DD275B0F9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31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F9B1-E6B4-4C2B-8473-9928261E0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140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348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2140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348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20A9-6465-4820-8B02-DFD13FA6A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FE6-BB02-4B58-938D-D269E54B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62A-20CE-442A-AA82-EFB8A14E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B66-A5BA-47C6-BC94-935E06FD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831-DA2E-440D-B3D5-57361D1E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10E-89E9-4DD4-B1A7-0237BD63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B42-FD9C-4F9E-B8B5-2EB59854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9FE-F0C2-4AAE-9705-B4CB98FD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5FED-09FD-4167-B58A-CDA9D225D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31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1D6-CAE6-4D52-A736-D851A2A7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D9A-18BF-4165-BBD5-20EBE44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9320" y="43693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981-A412-4DA9-9BBB-837A1ACE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31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CCE-3472-4ABF-BBA3-0BE824E4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2140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2348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932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2140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2348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335-9A83-4CA4-97A6-B60926D8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E63C-0875-4B1B-89AE-33B411276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316C-E8AD-4CA3-ABE1-EA1A9A1C4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F703-1AE7-43EF-9734-15CC2F212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F392-29A2-41B2-9550-0BAF5C26D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766F-CAE0-46B0-BA43-2822CC3DF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31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C902-0F42-4A01-AAC7-17D2D9E66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8923-8420-4FAE-A951-54202ED10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0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6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rId2" action="ppaction://hlinksldjump"/>
          </p:cNvPr>
          <p:cNvSpPr/>
          <p:nvPr/>
        </p:nvSpPr>
        <p:spPr>
          <a:xfrm>
            <a:off x="0" y="25146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3" action="ppaction://hlinksldjump"/>
          </p:cNvPr>
          <p:cNvSpPr/>
          <p:nvPr/>
        </p:nvSpPr>
        <p:spPr>
          <a:xfrm>
            <a:off x="0" y="1523880"/>
            <a:ext cx="1143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Over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KA2-Por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Ontolog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Provi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Portal Ac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Conclu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B57-1721-4857-8F7B-CCEBAE8C1156}" type="slidenum">
              <a:rPr b="1" lang="en-US" sz="11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aifb_logo1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322560" cy="1067040"/>
          </a:xfrm>
          <a:prstGeom prst="rect">
            <a:avLst/>
          </a:prstGeom>
          <a:ln w="0">
            <a:noFill/>
          </a:ln>
        </p:spPr>
      </p:pic>
      <p:sp>
        <p:nvSpPr>
          <p:cNvPr id="5" name="">
            <a:hlinkClick r:id="rId5" action="ppaction://hlinksldjump"/>
          </p:cNvPr>
          <p:cNvSpPr/>
          <p:nvPr/>
        </p:nvSpPr>
        <p:spPr>
          <a:xfrm>
            <a:off x="-152280" y="213372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0" y="586692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77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Slide </a:t>
            </a:r>
            <a:fld id="{732DCF9B-F2FA-44F2-8455-E3A3655FBA84}" type="slidenum">
              <a:rPr b="1" lang="en-US" sz="11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ifb_logo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14600" cy="2362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55F7-1855-46D6-BF04-E7EF082F4EB1}" type="datetime">
              <a:rPr b="1" lang="en-US" sz="1100" spc="-1" strike="noStrike">
                <a:solidFill>
                  <a:srgbClr val="009999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550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06080" y="45864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Semantic Community Web Portals</a:t>
            </a: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04640" y="2398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di Stud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nowledge Management Gro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itute AIFB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versity of Karlsruh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://www.aifb.uni-karlsruhe.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gstuhl Seminar “Semantics for the Web"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ch 19 - 24, 200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25160" y="228600"/>
            <a:ext cx="75135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language neu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ing of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large extent available for concepts and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xioms opens the way to handle axioms in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0920" y="1549080"/>
            <a:ext cx="39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60" y="281952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0A6B-4875-4767-A94B-2E57236B6A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44160" y="793800"/>
            <a:ext cx="7226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y calcul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eb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mbining ontologies in a semantically well-defined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e.g. SKC project in Stan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e.g. DA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has to be adapted to chang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/ interests of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60" y="281952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7326-1DC7-4A4F-853C-E208C8AFF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4. Providing Information for the </a:t>
            </a: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   Semantic Community Web Portal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 of information has to be possi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ers of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lf-organiz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with the diversity of information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inform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nrich documents with semant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provisio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emantic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Wareho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re the provided fa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th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160" y="3411360"/>
            <a:ext cx="1031760" cy="505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4670-60C9-4F19-9D9D-6E0C7C9B71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tadata based Information: Issu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0800" y="654120"/>
            <a:ext cx="796284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objectiv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over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far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-and-pa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otation tool: Onto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annotated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cal concep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cal facts come for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 DTDs out of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tags have semantic underp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F(s) delivers a standardization for metadata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reuse and exchange of metadata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xtract onto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s from given tex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160" y="3411360"/>
            <a:ext cx="1031760" cy="505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1808-FE72-4AC3-AA2B-7FF96BC48C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ntoPa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fig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8001000" cy="500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160" y="3411360"/>
            <a:ext cx="1031760" cy="505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2652-B90C-4F32-A74D-21C8766EF4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5. Accessing the Portal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has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semantic structure of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multitud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to specific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 complex queries behind hypertext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or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to specific user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bon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rame 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tegrate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new knowledge by exploiting th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2A2C-CF33-4DB6-B02C-33A2E03DC0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Querying the Portal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 a query b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concepts, attributes,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heck boxes, selection list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bo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e concept hier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 query by concept attrib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toring them as semantic bookma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pers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4AFA-63AA-4788-A9A3-32E5D40F1A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92320" y="361440"/>
            <a:ext cx="76960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Query Interfa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Graphic1" descr=""/>
          <p:cNvPicPr/>
          <p:nvPr/>
        </p:nvPicPr>
        <p:blipFill>
          <a:blip r:embed="rId1"/>
          <a:stretch/>
        </p:blipFill>
        <p:spPr>
          <a:xfrm>
            <a:off x="1176480" y="1306440"/>
            <a:ext cx="7967520" cy="483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FEB6-10CC-4753-8A45-E28C5BAF9C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74400"/>
            <a:ext cx="76960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Hyperbolic View Interfa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fig3" descr=""/>
          <p:cNvPicPr/>
          <p:nvPr/>
        </p:nvPicPr>
        <p:blipFill>
          <a:blip r:embed="rId1"/>
          <a:stretch/>
        </p:blipFill>
        <p:spPr>
          <a:xfrm>
            <a:off x="1387440" y="1195560"/>
            <a:ext cx="6934320" cy="5171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54EA-C344-40FA-BC62-5971D99C9F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4160" y="2966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Issue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0346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formalism has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d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port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traight forward for concepts,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delivery of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ing of deri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asy-to-use mean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to be tailor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plication / 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E8B9-03B9-40AD-BB98-22030A11B5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304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to appear in:</a:t>
            </a: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 Proceedings of the 9th International World Wide Web Conference (WWW '9), Amsterdam, May 2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515360" cy="563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9DB0-EABE-4C09-BC75-4E0D24DF3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6. Conclu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and maintenance aspects not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information is still the crucial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level entry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m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long term 80%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y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a major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160" y="457524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81F9-DCD4-4D5E-A6EF-3C5BA76A1D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quirements for a Semantic Community Web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ample Scenario: KA2-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ntologies as a Conceptual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ccessing the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160" y="1486080"/>
            <a:ext cx="1031760" cy="34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916E-E77C-4062-86A5-01D73E0A90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1. Requirements for a Semantic Community  Web Portal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 We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nto practice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a structu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ew onto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basic paradigm of the Web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aspect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people [and machines] can’t share knowled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don’t speak a common language” (Davenpor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 th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160" y="181620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F787-CB8D-4FCE-B68C-E99921DA1D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1932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pproach has to cover several 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unity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 integrated answers exten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ri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provi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ty members must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 to provi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 and associated tool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160" y="181620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EB4B-C5B2-48D3-91EA-91C9B24A3E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ntobroker Architecture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fig6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905120" y="1219320"/>
            <a:ext cx="6019560" cy="5492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160" y="181620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FDC8-A091-49D6-A91B-C7A915AD98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led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notation initiativ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led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quisition community (KA2-Por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ka2portal.aifb.uni-karlsruh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mantic acces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 has been started several years ago (Richard Benjamins, Dieter Fen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96640"/>
            <a:ext cx="75438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Example Scenario: KA2 - Por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160" y="2311560"/>
            <a:ext cx="1031760" cy="34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4926-C224-4983-8BA1-96E96D54AF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3. Ontologies as a Conceptual Backbon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2 ontology is the result of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 w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laboration of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tology is currently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has been achieved by several workshops and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d by “Key pers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axi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60" y="281952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36E7-BB9F-4E19-A910-8E0CAC4CC8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2209680"/>
            <a:ext cx="617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Partial KA2 Ontology </a:t>
            </a:r>
            <a:br>
              <a:rPr sz="3000"/>
            </a:b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(specified in Frame Logic)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17440" y="2066760"/>
          <a:ext cx="7758360" cy="569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2066760"/>
                    <a:ext cx="7758360" cy="569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8160" y="281952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DF05-3132-4949-9CF6-72C573B08E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9:59:34Z</dcterms:created>
  <dc:creator>Michael Erdmann</dc:creator>
  <dc:description/>
  <dc:language>en-US</dc:language>
  <cp:lastModifiedBy>Stefan Decker</cp:lastModifiedBy>
  <cp:lastPrinted>2000-03-16T07:43:37Z</cp:lastPrinted>
  <dcterms:modified xsi:type="dcterms:W3CDTF">2000-04-11T22:07:24Z</dcterms:modified>
  <cp:revision>61</cp:revision>
  <dc:subject/>
  <dc:title>Semantics for the Web</dc:title>
</cp:coreProperties>
</file>